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DC4-3CC4-4081-A2FE-E1CA584E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4F0-56D0-4490-A6D4-ED14655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79D-2CE1-4F9A-8A2E-E3D95276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914-F5A3-4765-ACD0-C2C5DC31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4711-D22A-4F7C-A3A5-9B0BE8DE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ED15-54D7-40F9-AA4B-6D62800A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460C-3E21-4FB0-B965-3815F449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6F5F-25A0-49D9-9FF7-AD8AEE07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63FE-481C-4EC9-AC0B-87570556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25E-D366-44A8-BD4F-D38A879F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FFD8-3B2A-431E-80A7-0D8BA7CB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69E-1D50-41B3-98BD-C43BC393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71A3-60D8-4674-800E-F0AF32C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237F-60FF-4971-BF52-34FFBB0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7626-6DB0-44F8-A396-8B345279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ACB6-BE01-4A4A-8EB3-FB6A5D67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8665-C8F0-4E7A-A1B4-6CD0F91A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E2E8-D3AD-4382-A2E1-D95754E4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CEBB-BE5D-4E06-81BC-0B83C544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59CF-29CE-454B-8A51-93D2EA64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CCB2-EB57-41F9-920A-EAA46011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6F51-6F6D-427D-8689-C5697428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EF6-1035-4081-8400-AC5D3028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BB89-9B9F-44D5-8879-B5323A66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39EE-66D2-4FDA-A538-BD7BC10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553E7-CBC0-4E25-8EEC-1A0B272A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C84D-CE26-4998-94D8-A0948642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C6D2-ACB5-4939-8EEB-C90D1729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3BBF-1B17-4714-B52F-BDD2D9CE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A67D7-CBD3-44BA-B1DF-B3DB3192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62AE-354C-411C-A0FE-D9BF0829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CCE9-5B3C-4834-83EE-F5199995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4756-2C41-48A5-AA34-AEC780A0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745-2E79-4C0C-853D-0A3ABF05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FEF0-E141-42E8-8C49-57806D54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A5E64-A697-49D1-BCD2-A8C8F62B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BDF5-FC6A-4CD1-B8ED-C8F2F46B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B7697-B4F7-4F75-A13C-D1558A47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DFFA-B879-4628-BCD2-769EA15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30D2-5947-49BF-8966-0F722336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D97B7-908F-40ED-9A2E-E78E2D3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F558-1808-4A98-B5E7-7ADEC043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35DB-AF5C-4943-85F0-EE9690EE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E501F-D060-4018-9103-B7B20B80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BF1-0547-4FE0-AA3F-5A927ED7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0750E-C279-43B2-8A9B-CD98B253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2E4A3-C6C0-49E4-952E-EF885EC5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2925-30C3-45F9-A3EA-2F99818A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6CC0-9F15-4B6F-9138-FE5409BB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BF382-F0E2-433B-A174-20DDBF78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7F9FB-AC9E-4F9E-AA7A-A71D986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AF5F0-39F3-4913-B46F-D1BD796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E15D-19D4-4EBD-8D0B-8A9C60F3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169D5-6DDA-4367-8D11-9E880465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8B3B-6D4A-43F8-BBA7-A05A0929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486-4638-4948-807F-C8DFCCE9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35ED-BA08-46A7-994E-E31858E0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BAB55-983F-4610-B2B8-0CADCFD8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0881-E4B6-439C-87B6-219D4024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8BC2-6112-48CB-BA66-8EB38E8D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CFA17-304B-4A77-83BB-3F6C698E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E039-C41D-40A5-8341-4AD09CF8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5BBFE-36A9-413E-B6E2-3AE9CE23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D44C-32C7-4475-8247-8FB306CB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DF770-30F2-423F-BB34-FC39BC4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558EA-EE9C-430B-82D7-41FC682D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665-8EEB-490F-913D-9D6969D2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B111F-AE70-4A0F-8631-27647B0B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74E81-2A31-4181-A2B7-FDE74394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F539-30EE-4660-B69E-C0B50F0C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6A23-98F8-4B25-92DE-FCC9F6CF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04CAE-EA73-4CE1-A567-56C299B6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4799B-CFF7-467D-A963-77347767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EB04B-BFF0-4177-869A-A8F20E54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064F-2FE3-4C9D-AFE2-802C2FE4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6E01C-CFB6-449A-BAD2-220A27F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2E6BE-AAB4-4DCD-AD1A-8BC3F05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F8E-CB53-433C-A376-0DA0D2F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EA645-24F5-4C40-89DC-27B94283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632B-9143-45BF-A373-9AA20214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C4B4F-3417-4258-A74C-86179D86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E98F-EA11-4E40-858C-10E82BF2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3E95A-E58A-4E22-99F4-A44B33DA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3DBCD-FD62-4CE6-8F4B-887EA9CF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DCF2-F90E-4C45-836B-5D93E01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67BC1-A61D-49E0-BBE7-15B16663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66844-CCF4-42EE-8FE1-2F0DA7C6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37429-B810-4855-B046-F3195DEC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BC4-06B0-4CEB-AF5C-241CE6F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2D88C-B347-4702-B582-4E168763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4ACF7-E405-4688-93C4-4C6F1A57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C2A5E-A933-4E84-ADC7-40F1266A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D7B20-25A9-40C8-8A07-05C22C11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818EE-EA7B-488B-904A-63CB9C34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84830-E951-4D2B-93DE-31BC6A97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945A3-11FA-44F6-A49A-CC91F401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4D47-FDA7-4CB1-A7D1-347A21FC0AF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1954-B33D-4962-8221-4088594CA59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6634-5CD1-4A96-9AC2-36C594016FC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0294-97F5-4C9D-9224-6A0AEE74DF3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33A4-F319-472E-86F4-735BDB523FB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5DEA-5E53-4EBE-9572-101FA99496C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F392-4B34-42D5-96A3-22A21EC2DB6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FF3-4036-4E37-AE21-CEA76016487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219320"/>
            <a:ext cx="8534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e: genome, gametes, chromatin, chromosome, centromere, kinetochore, checkpoint, Cdk, MP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the longest part of the cell cycle?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the diploid number is 46, the haploid number i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Cell Cycl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: life of a cell from its formation until it divid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44756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Functions of Cell Divis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eproduction, Growth and Tissue Repai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6" descr="12_02_CellDivFunctions-L.jpg"/>
          <p:cNvPicPr/>
          <p:nvPr/>
        </p:nvPicPr>
        <p:blipFill>
          <a:blip r:embed="rId1"/>
          <a:stretch/>
        </p:blipFill>
        <p:spPr>
          <a:xfrm>
            <a:off x="4724280" y="1676520"/>
            <a:ext cx="4219560" cy="458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12_01ChromosomesCellDiv-L.jpg"/>
          <p:cNvPicPr/>
          <p:nvPr/>
        </p:nvPicPr>
        <p:blipFill>
          <a:blip r:embed="rId2"/>
          <a:stretch/>
        </p:blipFill>
        <p:spPr>
          <a:xfrm>
            <a:off x="609480" y="3505320"/>
            <a:ext cx="37339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Genome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= all of a cell’s genetic info (DNA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Prokaryot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single, circular chromosome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Gill Sans MT"/>
              </a:rPr>
              <a:t>Eukaryot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more than one linear chromosom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g. Human:46 chromosomes, mouse: 40, fruit fly: 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76" name="Picture 4" descr="12_03EukChromosomes-L.jpg"/>
          <p:cNvPicPr/>
          <p:nvPr/>
        </p:nvPicPr>
        <p:blipFill>
          <a:blip r:embed="rId1"/>
          <a:stretch/>
        </p:blipFill>
        <p:spPr>
          <a:xfrm>
            <a:off x="2590920" y="3200400"/>
            <a:ext cx="42670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Each chromosome must be duplicated before cell divis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Duplicated chromoso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2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sister chromatid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tached by a </a:t>
            </a:r>
            <a:r>
              <a:rPr b="0" lang="en-US" sz="2800" spc="-1" strike="noStrike">
                <a:solidFill>
                  <a:srgbClr val="7030a0"/>
                </a:solidFill>
                <a:latin typeface="Gill Sans MT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8" descr="12_05ChromoDupliDist_3-L.jpg"/>
          <p:cNvPicPr/>
          <p:nvPr/>
        </p:nvPicPr>
        <p:blipFill>
          <a:blip r:embed="rId1"/>
          <a:stretch/>
        </p:blipFill>
        <p:spPr>
          <a:xfrm>
            <a:off x="4876920" y="2133720"/>
            <a:ext cx="3932280" cy="4511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12_04CondensedChromosome-L.jpg"/>
          <p:cNvPicPr/>
          <p:nvPr/>
        </p:nvPicPr>
        <p:blipFill>
          <a:blip r:embed="rId2"/>
          <a:stretch/>
        </p:blipFill>
        <p:spPr>
          <a:xfrm>
            <a:off x="152280" y="3403440"/>
            <a:ext cx="452124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Somatic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Game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dy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ploid (2n): 2 of each type of chromos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vide by mit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mans: 2n = 4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x cells (sperm/eg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ploid (n): 1 of each type of chromos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vide by meio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mans: n = 2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hases of the Cell Cycle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7" name="Picture 10" descr="12_06CellCycle-L.jpg"/>
          <p:cNvPicPr/>
          <p:nvPr/>
        </p:nvPicPr>
        <p:blipFill>
          <a:blip r:embed="rId1"/>
          <a:stretch/>
        </p:blipFill>
        <p:spPr>
          <a:xfrm>
            <a:off x="1054080" y="1295280"/>
            <a:ext cx="7099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hases of the Cell Cycle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mitoti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hase alternates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464653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S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G</a:t>
            </a:r>
            <a:r>
              <a:rPr b="0" lang="en-US" sz="2800" spc="-1" strike="noStrike" baseline="-25000">
                <a:solidFill>
                  <a:srgbClr val="464653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mitosis </a:t>
            </a:r>
            <a:r>
              <a:rPr b="0" lang="en-US" sz="28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 cytokinesi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90% of cell cyc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ell grows and carries out normal function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duplicates chromosom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Phase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prepares for cell division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M Ph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mitotic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itosi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nucleus divid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ytokinesi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ytoplasm divide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Bookman Old Style"/>
              </a:rPr>
              <a:t>Mitosis</a:t>
            </a: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Pro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Meta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Anaphase </a:t>
            </a:r>
            <a:r>
              <a:rPr b="0" lang="en-US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Telo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1" name="Picture 3" descr="12_07_MitosisAnimalCell-L.jpg"/>
          <p:cNvPicPr/>
          <p:nvPr/>
        </p:nvPicPr>
        <p:blipFill>
          <a:blip r:embed="rId1"/>
          <a:stretch/>
        </p:blipFill>
        <p:spPr>
          <a:xfrm>
            <a:off x="380880" y="2743200"/>
            <a:ext cx="85471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Mitosi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ontinuous process with observable structural fea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Chromosomes become visible (pro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Alignment at the equator (meta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Separation of sister chromatids (anaphase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Form two daughter cells (telophase &amp; cytokinesis)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94" name="Picture 3" descr="12_07_MitosisAnimalCell-L.jpg"/>
          <p:cNvPicPr/>
          <p:nvPr/>
        </p:nvPicPr>
        <p:blipFill>
          <a:blip r:embed="rId1"/>
          <a:stretch/>
        </p:blipFill>
        <p:spPr>
          <a:xfrm>
            <a:off x="1523880" y="4191120"/>
            <a:ext cx="617220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92040"/>
            <a:ext cx="74674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Prophase &amp; Prometa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" descr="12_07aMitosisAnimalCell-L.jpg"/>
          <p:cNvPicPr/>
          <p:nvPr/>
        </p:nvPicPr>
        <p:blipFill>
          <a:blip r:embed="rId1"/>
          <a:stretch/>
        </p:blipFill>
        <p:spPr>
          <a:xfrm>
            <a:off x="304920" y="1447920"/>
            <a:ext cx="85471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762120" y="392040"/>
            <a:ext cx="74674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Metaphase &amp; Anap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12_07bMitosisAnimalCell-L.jpg"/>
          <p:cNvPicPr/>
          <p:nvPr/>
        </p:nvPicPr>
        <p:blipFill>
          <a:blip r:embed="rId1"/>
          <a:srcRect l="0" t="0" r="33988" b="0"/>
          <a:stretch/>
        </p:blipFill>
        <p:spPr>
          <a:xfrm>
            <a:off x="1447920" y="1447920"/>
            <a:ext cx="62625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the end of mitosis and cytokinesis, how do daughter cells compare with their parent cell when it was in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cell’s DNA was measured at 5 picograms. DNA levels range from 3-6 pgms in the cell cycle .  What stage of the cell cycle is this cell in. How do you know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etaphase, if the haploid number is 3, how many chromatids does this cell ha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219320"/>
            <a:ext cx="845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Cytokin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Cytoplasm of cell divided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Animal Cell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leavage furrow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Gill Sans MT"/>
              </a:rPr>
              <a:t>Plant Cell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: cell plate forms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401" name="Picture 2" descr="12_07bMitosisAnimalCell-L.jpg"/>
          <p:cNvPicPr/>
          <p:nvPr/>
        </p:nvPicPr>
        <p:blipFill>
          <a:blip r:embed="rId1"/>
          <a:srcRect l="65814" t="0" r="0" b="0"/>
          <a:stretch/>
        </p:blipFill>
        <p:spPr>
          <a:xfrm>
            <a:off x="5638680" y="609480"/>
            <a:ext cx="35053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man Old Style"/>
              </a:rPr>
              <a:t>Cytokinesis in animal vs. plant cel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4" name="Picture 3" descr="12_10_Cytokinesis-L.jpg"/>
          <p:cNvPicPr/>
          <p:nvPr/>
        </p:nvPicPr>
        <p:blipFill>
          <a:blip r:embed="rId1"/>
          <a:stretch/>
        </p:blipFill>
        <p:spPr>
          <a:xfrm>
            <a:off x="304920" y="1219320"/>
            <a:ext cx="8547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nimal Cell Division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6" name="Picture 1" descr="12_07cMitosisAnimalCell-L.jpg"/>
          <p:cNvPicPr/>
          <p:nvPr/>
        </p:nvPicPr>
        <p:blipFill>
          <a:blip r:embed="rId1"/>
          <a:stretch/>
        </p:blipFill>
        <p:spPr>
          <a:xfrm>
            <a:off x="304920" y="762120"/>
            <a:ext cx="8547120" cy="3170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12_07dMitosisAnimalCell-L.jpg"/>
          <p:cNvPicPr/>
          <p:nvPr/>
        </p:nvPicPr>
        <p:blipFill>
          <a:blip r:embed="rId2"/>
          <a:stretch/>
        </p:blipFill>
        <p:spPr>
          <a:xfrm>
            <a:off x="291960" y="3733920"/>
            <a:ext cx="8547120" cy="30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Plant Cell Division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9" name="Picture 1" descr="12_11_MitosisPlantCell-L.jpg"/>
          <p:cNvPicPr/>
          <p:nvPr/>
        </p:nvPicPr>
        <p:blipFill>
          <a:blip r:embed="rId1"/>
          <a:stretch/>
        </p:blipFill>
        <p:spPr>
          <a:xfrm>
            <a:off x="291960" y="1689120"/>
            <a:ext cx="85471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Which phases of the cell cycle can you identify?</a:t>
            </a:r>
            <a:endParaRPr b="0" lang="en-US" sz="3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173720" cy="53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ring ana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387440"/>
            <a:ext cx="4114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romosomes walked to poles by motor protei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inetochore microtubules shorten at ends as they depolymeriz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4" name="Picture 6" descr="12_09_AnaphaseKinetochore-L.jpg"/>
          <p:cNvPicPr/>
          <p:nvPr/>
        </p:nvPicPr>
        <p:blipFill>
          <a:blip r:embed="rId1"/>
          <a:stretch/>
        </p:blipFill>
        <p:spPr>
          <a:xfrm>
            <a:off x="4419720" y="152280"/>
            <a:ext cx="440676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ookman Old Style"/>
              </a:rPr>
              <a:t>Bacterial cells divide by 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Binary Fissio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6" name="Picture 3" descr="12_12BinaryFission_4-L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54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ell Cycle Control System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Checkpoi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control point where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1" lang="en-US" sz="2800" spc="-1" strike="noStrike">
                <a:solidFill>
                  <a:srgbClr val="00b050"/>
                </a:solidFill>
                <a:latin typeface="Gill Sans MT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ignals regulate the cell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3" descr="12_15MechAnalogyCellCyc-L.jpg"/>
          <p:cNvPicPr/>
          <p:nvPr/>
        </p:nvPicPr>
        <p:blipFill>
          <a:blip r:embed="rId1"/>
          <a:stretch/>
        </p:blipFill>
        <p:spPr>
          <a:xfrm>
            <a:off x="1981080" y="2362320"/>
            <a:ext cx="50054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Major Checkpoint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28240" y="1219320"/>
            <a:ext cx="8839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heckpoi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Most important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Controlled by cell size, growth factors, environment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Go</a:t>
            </a: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”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completes whole cell cycle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Stop</a:t>
            </a:r>
            <a:r>
              <a:rPr b="0" lang="ja-JP" sz="2600" spc="-1" strike="noStrike">
                <a:solidFill>
                  <a:srgbClr val="464653"/>
                </a:solidFill>
                <a:latin typeface="Gill Sans MT"/>
              </a:rPr>
              <a:t>”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cell enters nondividing state (G</a:t>
            </a:r>
            <a:r>
              <a:rPr b="0" lang="en-US" sz="2600" spc="-1" strike="noStrike" baseline="-25000">
                <a:solidFill>
                  <a:srgbClr val="464653"/>
                </a:solidFill>
                <a:latin typeface="Gill Sans MT"/>
              </a:rPr>
              <a:t>0</a:t>
            </a: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 Phase)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2" marL="957240" indent="-4629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rve, muscle cells stay at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 liver cells called back from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G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checkpo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957240" indent="-46296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rolled by DNA replication completion, DNA mutations, cell siz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-spindle (Metaphase) checkpo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6296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eck spindle fiber (microtubule) attachment to chromosomes at kinetochores (anchor sites)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12_16G1Checkpoint-L.jpg"/>
          <p:cNvPicPr/>
          <p:nvPr/>
        </p:nvPicPr>
        <p:blipFill>
          <a:blip r:embed="rId1"/>
          <a:stretch/>
        </p:blipFill>
        <p:spPr>
          <a:xfrm>
            <a:off x="304920" y="1371600"/>
            <a:ext cx="8547120" cy="4700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man Old Style"/>
              </a:rPr>
              <a:t>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Bookman Old Style"/>
              </a:rPr>
              <a:t> Checkpoint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the correct phase of the cell cycle/mitosis for the follow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cells that no longer divide or rarely divide are in this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ster chromatids separate and move apa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totic spindle begins to 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ll plate or cleavage furrow for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re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line up on equatorial pl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clear membrane fo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romosomes become visi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M-spindle Checkpoint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Mitotic spindle at metapha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5" name="Picture 5" descr="12_08_MitoticSpindle-L.jpg"/>
          <p:cNvPicPr/>
          <p:nvPr/>
        </p:nvPicPr>
        <p:blipFill>
          <a:blip r:embed="rId1"/>
          <a:stretch/>
        </p:blipFill>
        <p:spPr>
          <a:xfrm>
            <a:off x="977760" y="1332000"/>
            <a:ext cx="7328160" cy="484020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5"/>
          <p:cNvGrpSpPr/>
          <p:nvPr/>
        </p:nvGrpSpPr>
        <p:grpSpPr>
          <a:xfrm>
            <a:off x="4800600" y="4419720"/>
            <a:ext cx="4114800" cy="2264040"/>
            <a:chOff x="4800600" y="4419720"/>
            <a:chExt cx="4114800" cy="2264040"/>
          </a:xfrm>
        </p:grpSpPr>
        <p:grpSp>
          <p:nvGrpSpPr>
            <p:cNvPr id="427" name="Left Arrow 6"/>
            <p:cNvGrpSpPr/>
            <p:nvPr/>
          </p:nvGrpSpPr>
          <p:grpSpPr>
            <a:xfrm>
              <a:off x="4800600" y="4620600"/>
              <a:ext cx="1192680" cy="829080"/>
              <a:chOff x="4800600" y="4620600"/>
              <a:chExt cx="1192680" cy="829080"/>
            </a:xfrm>
          </p:grpSpPr>
          <p:pic>
            <p:nvPicPr>
              <p:cNvPr id="428" name="Left Arrow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4620600"/>
                <a:ext cx="119268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5037840" y="4819320"/>
                <a:ext cx="880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TextBox 4"/>
            <p:cNvSpPr/>
            <p:nvPr/>
          </p:nvSpPr>
          <p:spPr>
            <a:xfrm>
              <a:off x="5843520" y="4419720"/>
              <a:ext cx="3071880" cy="2264040"/>
            </a:xfrm>
            <a:prstGeom prst="roundRect">
              <a:avLst>
                <a:gd name="adj" fmla="val 25750"/>
              </a:avLst>
            </a:prstGeom>
            <a:gradFill rotWithShape="0">
              <a:gsLst>
                <a:gs pos="0">
                  <a:srgbClr val="eccec6"/>
                </a:gs>
                <a:gs pos="100000">
                  <a:srgbClr val="eccec6"/>
                </a:gs>
              </a:gsLst>
              <a:lin ang="900000"/>
            </a:gradFill>
            <a:ln w="38160">
              <a:solidFill>
                <a:srgbClr val="b88472"/>
              </a:solidFill>
              <a:miter/>
            </a:ln>
            <a:effectLst>
              <a:outerShdw dist="270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Gill Sans MT"/>
                </a:rPr>
                <a:t>Kinetochore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= proteins associated with DNA at centrom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12_17_G2Checkpoint-L.jpg"/>
          <p:cNvPicPr/>
          <p:nvPr/>
        </p:nvPicPr>
        <p:blipFill>
          <a:blip r:embed="rId1"/>
          <a:srcRect l="0" t="0" r="0" b="59356"/>
          <a:stretch/>
        </p:blipFill>
        <p:spPr>
          <a:xfrm>
            <a:off x="1828800" y="1219320"/>
            <a:ext cx="6154560" cy="33098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Internal Regulatory Molecul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380880" y="43434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Kinas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(cyclin-dependent kinase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 C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): protein enzyme controls cell cycle; active when connected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MS PGothic"/>
              </a:rPr>
              <a:t>cyc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MS PGothic"/>
              </a:rPr>
              <a:t>Cycl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: proteins which attach to kinases to activate them; levels fluctuate in the 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Internal Regulatory Molecul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304920" y="1219320"/>
            <a:ext cx="84582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7388c"/>
                </a:solidFill>
                <a:uFillTx/>
                <a:latin typeface="Arial"/>
              </a:rPr>
              <a:t>MPF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turation-promot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</a:t>
            </a:r>
            <a:r>
              <a:rPr b="1" lang="en-US" sz="2600" spc="-1" strike="noStrike">
                <a:solidFill>
                  <a:srgbClr val="a7388c"/>
                </a:solidFill>
                <a:latin typeface="Arial"/>
              </a:rPr>
              <a:t>cyclin-Cdk complex</a:t>
            </a:r>
            <a:r>
              <a:rPr b="0" lang="en-US" sz="2600" spc="-1" strike="noStrike">
                <a:solidFill>
                  <a:srgbClr val="a7388c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allows cells to pass 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go to M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12_17_G2Checkpoint-L.jpg"/>
          <p:cNvPicPr/>
          <p:nvPr/>
        </p:nvPicPr>
        <p:blipFill>
          <a:blip r:embed="rId1"/>
          <a:srcRect l="0" t="38014" r="0" b="0"/>
          <a:stretch/>
        </p:blipFill>
        <p:spPr>
          <a:xfrm>
            <a:off x="2286000" y="2514600"/>
            <a:ext cx="49546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External Regulatory Facto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38" name="Picture 5" descr="12_19_CellDivInhibition-L.jpg"/>
          <p:cNvPicPr/>
          <p:nvPr/>
        </p:nvPicPr>
        <p:blipFill>
          <a:blip r:embed="rId1"/>
          <a:stretch/>
        </p:blipFill>
        <p:spPr>
          <a:xfrm>
            <a:off x="304920" y="1295280"/>
            <a:ext cx="85471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294920"/>
            <a:ext cx="83059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Growth Factor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roteins released by other cells to stimulate cell divi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Density-Dependent Inhibition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wded cells normally stop dividing; cell-surface protein binds to adjoining cell to inhibit grow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chorage Dependence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ls must be attached to another cell or ECM to divi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External Regulatory Factor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Cancer Cell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Cance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disorder in which cells lose the ability to control growth by not responding to regul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ultistep process of about 5-7 genetic changes (for a human) for a cell to transfor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ses anchorage dependency and density-dependency regul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3" name="Group 9"/>
          <p:cNvGrpSpPr/>
          <p:nvPr/>
        </p:nvGrpSpPr>
        <p:grpSpPr>
          <a:xfrm>
            <a:off x="1600200" y="3983040"/>
            <a:ext cx="6464160" cy="2435760"/>
            <a:chOff x="1600200" y="3983040"/>
            <a:chExt cx="6464160" cy="2435760"/>
          </a:xfrm>
        </p:grpSpPr>
        <p:pic>
          <p:nvPicPr>
            <p:cNvPr id="444" name="Picture 5" descr="12_19aCellDivInhibition-L.jpg"/>
            <p:cNvPicPr/>
            <p:nvPr/>
          </p:nvPicPr>
          <p:blipFill>
            <a:blip r:embed="rId1"/>
            <a:srcRect l="0" t="0" r="0" b="25521"/>
            <a:stretch/>
          </p:blipFill>
          <p:spPr>
            <a:xfrm>
              <a:off x="1600200" y="4016880"/>
              <a:ext cx="2971440" cy="20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6" descr="12_19bCellDivInhibition-L.jpg"/>
            <p:cNvPicPr/>
            <p:nvPr/>
          </p:nvPicPr>
          <p:blipFill>
            <a:blip r:embed="rId2"/>
            <a:srcRect l="0" t="0" r="0" b="24511"/>
            <a:stretch/>
          </p:blipFill>
          <p:spPr>
            <a:xfrm>
              <a:off x="4876560" y="3983040"/>
              <a:ext cx="3187800" cy="21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Box 7"/>
            <p:cNvSpPr/>
            <p:nvPr/>
          </p:nvSpPr>
          <p:spPr>
            <a:xfrm>
              <a:off x="1600200" y="6019920"/>
              <a:ext cx="20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rmal Ce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8"/>
            <p:cNvSpPr/>
            <p:nvPr/>
          </p:nvSpPr>
          <p:spPr>
            <a:xfrm>
              <a:off x="4876560" y="6019920"/>
              <a:ext cx="20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ncer Ce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12_20MalignantTumor-L.jpg"/>
          <p:cNvPicPr/>
          <p:nvPr/>
        </p:nvPicPr>
        <p:blipFill>
          <a:blip r:embed="rId1"/>
          <a:stretch/>
        </p:blipFill>
        <p:spPr>
          <a:xfrm>
            <a:off x="1828800" y="3200400"/>
            <a:ext cx="6121440" cy="3444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umors = mass of abnormal cel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Benign tum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lump of cells remain at original si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Malignant tum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invasive - impairs functions of 1+ organs (called canc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Metasta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cells separate from tumor and travel to other parts of b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cancer3.jpg"/>
          <p:cNvPicPr/>
          <p:nvPr/>
        </p:nvPicPr>
        <p:blipFill>
          <a:blip r:embed="rId1"/>
          <a:stretch/>
        </p:blipFill>
        <p:spPr>
          <a:xfrm>
            <a:off x="6146640" y="4191120"/>
            <a:ext cx="2845080" cy="2666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Bookman Old Style"/>
              </a:rPr>
              <a:t>Cancer Prevention</a:t>
            </a: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one can get cancer but there are ways to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minimiz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ris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 smoke, legal or illegal (includes hookahs, chew,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hand smok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sun prote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ercise and keep weight at ideal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t 5-7 servings of fruit and veggies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a d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screening/preventative measures-breast/testicle/mole chec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actice abstinence or use condo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ccines (eg. HPV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the difference between plant and animal cell divis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asurements of the DNA amount per nucleus were taken.  DNA levels ranged from 3-6 picograms per nucleus, what stage of the cell cycle are these cells i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nucleus has 3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with 6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063800" indent="-51444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 pg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binary fissio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2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we know the cell uses chemical signal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mmarize the cell control syst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 a cancer cell to a normal cell.  What goes wro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3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 sexual to asexual reproduc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e/contrast mitosis to meios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the events of meios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Ch. 13 Warm up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cribe and compare the 3 sexual life cyc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es random assortment, crossing over and random fertilization contribute to genetic vari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e:  locus, karyotype, alternation of generations, synapsis, tetrad, chiasm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hapter 12: The Cell Cycle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What you must know: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ucture of the duplicated chromoso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cycle and stages of mitos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ole of kinases and cyclin in the regulation of the cell cyc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9:12:23Z</dcterms:created>
  <dc:creator>Jackie</dc:creator>
  <dc:description/>
  <dc:language>en-US</dc:language>
  <cp:lastModifiedBy>Roman-Wensing, Kayla</cp:lastModifiedBy>
  <dcterms:modified xsi:type="dcterms:W3CDTF">2017-11-13T16:30:23Z</dcterms:modified>
  <cp:revision>83</cp:revision>
  <dc:subject/>
  <dc:title>Chapter 12-13 THE CELL CYCLE/MEIOSIS and SEXUAL LIFE CYLES</dc:title>
</cp:coreProperties>
</file>